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ABD-70D2-41D8-906B-55C2879F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115-B60C-47CB-91F3-F1934F9C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C20-75CC-4190-99E9-432BD9A3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411-1292-4724-BDB1-466442A9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CF9C-A9CF-437E-9BE0-3A53B305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F37B-B591-4A3A-A09D-C6A45C2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E480-B88C-45B0-AD6A-4BEC5AEE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98C1-6EB2-48F1-A828-1845FE10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CDE-2FEE-4B5D-BA4B-33FB928D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E749-B1AC-46FF-87B2-ED7897EE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2C9-2423-4B24-BB9B-2349702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26F-80E5-44C4-A90C-D384E296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C54A-3FDF-4B7E-BC22-3CBEB1B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930-E68F-41F7-9484-4A67A389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EFA6-C69B-4D3E-9EA7-23D7DAD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AD44-EFEA-41CA-8216-D883E39A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547E-E393-4E4B-9484-13D443E5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A43-C436-463F-AA53-9270D4CD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A4E-37CA-4091-A131-34D7264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A1D-5AC2-4417-8D13-0D3DE09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226-4A0B-4888-B91B-6D087369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D49-8707-4E69-A702-D708F2BF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6C8-CDBD-4283-BFDA-1B573B0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70E-B790-4EF9-A60B-A599E89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668D-D013-466D-9543-316DEDD242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E806-8D36-47BB-AF15-77397022F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26600" y="2438280"/>
            <a:ext cx="87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cientific Method is used by research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or disprove a theory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6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63080" y="2286000"/>
            <a:ext cx="796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figure out a way to tes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ther the hypothesis is correct. Th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come must be something that c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measu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AMPROBLE"/>
          <p:cNvPicPr/>
          <p:nvPr/>
        </p:nvPicPr>
        <p:blipFill>
          <a:blip r:embed="rId2"/>
          <a:stretch/>
        </p:blipFill>
        <p:spPr>
          <a:xfrm>
            <a:off x="5486400" y="3276720"/>
            <a:ext cx="3429000" cy="3368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85800" y="4876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You replace the battery in the remote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4: Analyze Your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 at your results and decide what they tell you abou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MCBD06630_0000[1]"/>
          <p:cNvPicPr/>
          <p:nvPr/>
        </p:nvPicPr>
        <p:blipFill>
          <a:blip r:embed="rId1"/>
          <a:stretch/>
        </p:blipFill>
        <p:spPr>
          <a:xfrm>
            <a:off x="4343400" y="3581280"/>
            <a:ext cx="32004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80880" y="198108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do the experiment using the method you came up with and record the results. You repeat the experiment to confirm your results by retesting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AMDISAST"/>
          <p:cNvPicPr/>
          <p:nvPr/>
        </p:nvPicPr>
        <p:blipFill>
          <a:blip r:embed="rId2"/>
          <a:stretch/>
        </p:blipFill>
        <p:spPr>
          <a:xfrm>
            <a:off x="5445000" y="4038480"/>
            <a:ext cx="3699000" cy="2819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533520" y="4648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You press the power button again and the TV turns 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80880" y="2209680"/>
            <a:ext cx="57150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 Conclu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state whether your prediction was confirmed or not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he remote control needed a new battery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munic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try to explain and share your results with othe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ell others in your family that you 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xed</a:t>
            </a:r>
            <a:r>
              <a:rPr b="0" i="1" lang="ja-JP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he remote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bigmouth"/>
          <p:cNvPicPr/>
          <p:nvPr/>
        </p:nvPicPr>
        <p:blipFill>
          <a:blip r:embed="rId2"/>
          <a:stretch/>
        </p:blipFill>
        <p:spPr>
          <a:xfrm>
            <a:off x="6629400" y="2666880"/>
            <a:ext cx="2076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5: Form a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the answer to your question is and ask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s my hypothesis right or wrong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I need to do the experiment again to find out more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MCj04298270000[1]"/>
          <p:cNvPicPr/>
          <p:nvPr/>
        </p:nvPicPr>
        <p:blipFill>
          <a:blip r:embed="rId1"/>
          <a:stretch/>
        </p:blipFill>
        <p:spPr>
          <a:xfrm>
            <a:off x="6068880" y="4191120"/>
            <a:ext cx="19735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838080" y="24382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experience through your sense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1447920" y="4038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he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feel (touch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1523880" y="26668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think is happe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opinion of what is happe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Scientific Meth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eries of steps to follow to answer a question or solve a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are 7 main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MCj02979350000[1]"/>
          <p:cNvPicPr/>
          <p:nvPr/>
        </p:nvPicPr>
        <p:blipFill>
          <a:blip r:embed="rId1"/>
          <a:stretch/>
        </p:blipFill>
        <p:spPr>
          <a:xfrm rot="798000">
            <a:off x="5867280" y="3581280"/>
            <a:ext cx="19544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259092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Statement of th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Results (analyz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hem01"/>
          <p:cNvPicPr/>
          <p:nvPr/>
        </p:nvPicPr>
        <p:blipFill>
          <a:blip r:embed="rId2"/>
          <a:stretch/>
        </p:blipFill>
        <p:spPr>
          <a:xfrm>
            <a:off x="2133720" y="2666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hem01"/>
          <p:cNvPicPr/>
          <p:nvPr/>
        </p:nvPicPr>
        <p:blipFill>
          <a:blip r:embed="rId3"/>
          <a:stretch/>
        </p:blipFill>
        <p:spPr>
          <a:xfrm>
            <a:off x="2133720" y="4648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hem01"/>
          <p:cNvPicPr/>
          <p:nvPr/>
        </p:nvPicPr>
        <p:blipFill>
          <a:blip r:embed="rId4"/>
          <a:stretch/>
        </p:blipFill>
        <p:spPr>
          <a:xfrm>
            <a:off x="2133720" y="4191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hem01"/>
          <p:cNvPicPr/>
          <p:nvPr/>
        </p:nvPicPr>
        <p:blipFill>
          <a:blip r:embed="rId5"/>
          <a:stretch/>
        </p:blipFill>
        <p:spPr>
          <a:xfrm>
            <a:off x="2133720" y="3657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hem01"/>
          <p:cNvPicPr/>
          <p:nvPr/>
        </p:nvPicPr>
        <p:blipFill>
          <a:blip r:embed="rId6"/>
          <a:stretch/>
        </p:blipFill>
        <p:spPr>
          <a:xfrm>
            <a:off x="213372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hem01"/>
          <p:cNvPicPr/>
          <p:nvPr/>
        </p:nvPicPr>
        <p:blipFill>
          <a:blip r:embed="rId7"/>
          <a:stretch/>
        </p:blipFill>
        <p:spPr>
          <a:xfrm>
            <a:off x="2133720" y="5181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hem01"/>
          <p:cNvPicPr/>
          <p:nvPr/>
        </p:nvPicPr>
        <p:blipFill>
          <a:blip r:embed="rId8"/>
          <a:stretch/>
        </p:blipFill>
        <p:spPr>
          <a:xfrm>
            <a:off x="2133720" y="5638680"/>
            <a:ext cx="365040" cy="365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304920" y="20574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cientific Method involves 7 step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1: Ask a Qu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sts ask questions based on observations from their surroun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MCj04344110000[1]"/>
          <p:cNvPicPr/>
          <p:nvPr/>
        </p:nvPicPr>
        <p:blipFill>
          <a:blip r:embed="rId1"/>
          <a:stretch/>
        </p:blipFill>
        <p:spPr>
          <a:xfrm>
            <a:off x="5410080" y="3809880"/>
            <a:ext cx="2167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782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tatement of Probl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ask a question about what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bserv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V does not turn on when you press the power button on the remote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state the problem or question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The remote is not wor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AMCONFUS"/>
          <p:cNvPicPr/>
          <p:nvPr/>
        </p:nvPicPr>
        <p:blipFill>
          <a:blip r:embed="rId2"/>
          <a:stretch/>
        </p:blipFill>
        <p:spPr>
          <a:xfrm>
            <a:off x="6172200" y="20574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44956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EGIN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2: Form a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an educated guess about what you think the answer is to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MCj00822790000[1]"/>
          <p:cNvPicPr/>
          <p:nvPr/>
        </p:nvPicPr>
        <p:blipFill>
          <a:blip r:embed="rId1"/>
          <a:stretch/>
        </p:blipFill>
        <p:spPr>
          <a:xfrm>
            <a:off x="4876920" y="3581280"/>
            <a:ext cx="284796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88416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57200" y="2514600"/>
            <a:ext cx="5410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You predict what you think the answer to your question might 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Maybe the remote needs a new battery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scentist"/>
          <p:cNvPicPr/>
          <p:nvPr/>
        </p:nvPicPr>
        <p:blipFill>
          <a:blip r:embed="rId1"/>
          <a:stretch/>
        </p:blipFill>
        <p:spPr>
          <a:xfrm>
            <a:off x="6934320" y="533520"/>
            <a:ext cx="1714320" cy="1120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AMIDEA"/>
          <p:cNvPicPr/>
          <p:nvPr/>
        </p:nvPicPr>
        <p:blipFill>
          <a:blip r:embed="rId2"/>
          <a:stretch/>
        </p:blipFill>
        <p:spPr>
          <a:xfrm>
            <a:off x="6400800" y="2057400"/>
            <a:ext cx="1295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3: Test your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ep 3: Test your hypothe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 experiment to test you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4" descr="MCj02921160000[1]"/>
          <p:cNvPicPr/>
          <p:nvPr/>
        </p:nvPicPr>
        <p:blipFill>
          <a:blip r:embed="rId1"/>
          <a:stretch/>
        </p:blipFill>
        <p:spPr>
          <a:xfrm>
            <a:off x="4952880" y="3429000"/>
            <a:ext cx="31068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0:42:23Z</dcterms:created>
  <dc:creator>SSC</dc:creator>
  <dc:description/>
  <dc:language>en-US</dc:language>
  <cp:lastModifiedBy>St. Aloysius</cp:lastModifiedBy>
  <dcterms:modified xsi:type="dcterms:W3CDTF">2013-08-26T15:44:50Z</dcterms:modified>
  <cp:revision>22</cp:revision>
  <dc:subject/>
  <dc:title>The Scientific Method</dc:title>
</cp:coreProperties>
</file>